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447920"/>
            <a:ext cx="8686800" cy="318960"/>
            <a:chOff x="228240" y="1447920"/>
            <a:chExt cx="8686800" cy="318960"/>
          </a:xfrm>
        </p:grpSpPr>
        <p:sp>
          <p:nvSpPr>
            <p:cNvPr id="7" name=""/>
            <p:cNvSpPr/>
            <p:nvPr/>
          </p:nvSpPr>
          <p:spPr>
            <a:xfrm>
              <a:off x="676080" y="1447920"/>
              <a:ext cx="8238960" cy="31716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447920"/>
              <a:ext cx="46260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cvologo_f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03240" cy="557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363800" y="6613560"/>
            <a:ext cx="155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2004 – Rolf Neuendorf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5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42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triebliche</a:t>
            </a:r>
            <a:br>
              <a:rPr sz="3600"/>
            </a:b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nterweis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5600" y="52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r. Rolf Neuendo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2" name="vortrag" descr=""/>
          <p:cNvPicPr/>
          <p:nvPr/>
        </p:nvPicPr>
        <p:blipFill>
          <a:blip r:embed="rId1"/>
          <a:stretch/>
        </p:blipFill>
        <p:spPr>
          <a:xfrm>
            <a:off x="5003640" y="1357200"/>
            <a:ext cx="3454560" cy="2300400"/>
          </a:xfrm>
          <a:prstGeom prst="rect">
            <a:avLst/>
          </a:prstGeom>
          <a:ln w="0">
            <a:noFill/>
          </a:ln>
        </p:spPr>
      </p:pic>
      <p:pic>
        <p:nvPicPr>
          <p:cNvPr id="93" name="cvo_fak5" descr=""/>
          <p:cNvPicPr/>
          <p:nvPr/>
        </p:nvPicPr>
        <p:blipFill>
          <a:blip r:embed="rId2"/>
          <a:stretch/>
        </p:blipFill>
        <p:spPr>
          <a:xfrm>
            <a:off x="5715000" y="5719680"/>
            <a:ext cx="25909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Unterweisungsverpflicht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Planung einer Unterweis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Durchführung einer Unterweis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Dokumenta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triebsanweisung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nterweisungsverpflicht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Rechtsgrundlag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§81 Betriebsverfassungsgesetz (BVG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§7 BGV A1 "Allgemeine Vorschriften"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§§1,-7,12 Arbeitsschutzgesetz (ASG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§§1,3,9 Betriebssicherheitsverordnu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§8(3) BGV B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nterweisungsverpflicht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Unterrichtung der Arbeitnehmer über Unfall- und Gesundheitsgefahren ... Maßnahmen und Einrichtungen zur  Abwendung dieser Gefahren</a:t>
            </a:r>
            <a:br>
              <a:rPr sz="2400"/>
            </a:b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vor Beginn der Beschäftigung und danach in regelmäßigen Abständen ... mindestens einmal jährlich</a:t>
            </a:r>
            <a:br>
              <a:rPr sz="2400"/>
            </a:b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... arbeitsplatzbezoge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ondersituation: Universitä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Personalsituation: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Professor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Wissenschaftliche Mitarbeiter</a:t>
            </a:r>
            <a:br>
              <a:rPr sz="2800"/>
            </a:br>
            <a:r>
              <a:rPr b="0" i="1" lang="de-DE" sz="2400" spc="-1" strike="noStrike">
                <a:solidFill>
                  <a:srgbClr val="080808"/>
                </a:solidFill>
                <a:latin typeface="Arial"/>
              </a:rPr>
              <a:t>(Doktoranden, ...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Technische Mitarbeiter</a:t>
            </a:r>
            <a:br>
              <a:rPr sz="2800"/>
            </a:br>
            <a:r>
              <a:rPr b="0" i="1" lang="de-DE" sz="2400" spc="-1" strike="noStrike">
                <a:solidFill>
                  <a:srgbClr val="080808"/>
                </a:solidFill>
                <a:latin typeface="Arial"/>
              </a:rPr>
              <a:t>(PTAs, CTAs, ...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tudenten</a:t>
            </a:r>
            <a:br>
              <a:rPr sz="2800"/>
            </a:br>
            <a:r>
              <a:rPr b="0" i="1" lang="de-DE" sz="2400" spc="-1" strike="noStrike">
                <a:solidFill>
                  <a:srgbClr val="080808"/>
                </a:solidFill>
                <a:latin typeface="Arial"/>
              </a:rPr>
              <a:t>(Diplomanden, Praktikanten, ...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ondersituation: Universitä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Arbeitssituation: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(kaum) feste Apparaturen</a:t>
            </a:r>
            <a:br>
              <a:rPr sz="2800"/>
            </a:b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"fliegende Aufbauten"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tändige manuelle Eingriffe</a:t>
            </a:r>
            <a:br>
              <a:rPr sz="2800"/>
            </a:b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Umbauten an Experimenten, Probenwechsel,</a:t>
            </a:r>
            <a:br>
              <a:rPr sz="2800"/>
            </a:b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engte Raumsituation</a:t>
            </a:r>
            <a:br>
              <a:rPr sz="2800"/>
            </a:b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mehrere Experimente im Labo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chlechte Beispiel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Wunschvorstel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Mitarbeiter zu (selbst-)kritischem Handeln animieren!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wusstsein für sicheres Arbeitsumfeld schaffen!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Realistisch bleiben!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orschläg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etrennte Erst- und Wiederholungs- Unterweisungen durchführen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immer auf konkrete Situation eingehen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oweit möglich: praktische Beispiele!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4:19:57Z</dcterms:created>
  <dc:creator>rolf</dc:creator>
  <dc:description/>
  <dc:language>en-US</dc:language>
  <cp:lastModifiedBy>rolf</cp:lastModifiedBy>
  <dcterms:modified xsi:type="dcterms:W3CDTF">2004-05-11T07:42:39Z</dcterms:modified>
  <cp:revision>42</cp:revision>
  <dc:subject/>
  <dc:title>Grundlagen der  LASER-Operation</dc:title>
</cp:coreProperties>
</file>